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70A-9FBE-4E1D-8377-A377FE35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092-92F2-45D7-BD08-61489DEC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149-00A0-4576-AC9E-8D8BD869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59A-2A5D-4422-A688-F121543CC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4E15-520C-46EB-A31B-9E3F5770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0A54-60AB-42D3-803F-C35A51BF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E795-B5D4-406A-8921-303EE83C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083D-625D-488A-927A-65362C64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A341-12EA-4648-9917-29772982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5C39-144E-4F35-BA37-636C0690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3948-EFF9-4353-B285-699A8639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9A7-B530-44F1-AC57-1B882FA7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D111-A0DB-475D-B0ED-1B819494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E27D-6304-4C8B-B894-C140E523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4AA3-9A30-481A-93E6-962208B7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BFC2-4D6F-46F6-99D8-8F0C725F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3C93-CD7B-41D4-B6EF-0FE606B0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7CC5-742B-49AF-B760-9F05FB56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40C-F722-4AD3-A332-67DC49CA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E2A-D4A1-447F-8D2D-430A5B41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97D9-F9FC-4533-99D2-CF0188E4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8CA-81E2-4852-A8B5-8AB54639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AB25-CEA2-4F2C-A37C-0AB95DEC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DE7-1F11-4B8C-99FB-C28FD536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2DBD-76F0-4BC2-A37A-A8408AD0383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9039-0CE2-49FB-92D6-5ECED64C397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s vermes nos anima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76440" y="1828800"/>
            <a:ext cx="5914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0:25:38Z</dcterms:created>
  <dc:creator>Microsoft</dc:creator>
  <dc:description/>
  <dc:language>en-US</dc:language>
  <cp:lastModifiedBy>Microsoft</cp:lastModifiedBy>
  <dcterms:modified xsi:type="dcterms:W3CDTF">2008-07-03T11:03:55Z</dcterms:modified>
  <cp:revision>2</cp:revision>
  <dc:subject/>
  <dc:title>Slide 1</dc:title>
</cp:coreProperties>
</file>