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BFB-EB23-4081-B7FA-0FAEFEB1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8EB-2289-46CB-A806-1FE045F4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04D-D1BA-40DB-AF9B-BCC23E7C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9B3-A34C-4A6A-822D-BDD951BB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A67C-3353-4F1E-A8E1-A0AF5C6C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C16E-A0EC-4172-B29D-02CE6E42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13FC-1085-4BD7-BACF-6C14E274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6D38-F4BA-4198-B73B-7DD4C70B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B0F7-DDE7-479C-92BC-6C83C7A1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DE20-985C-48D5-92D3-D12263B3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3A84-B14D-4E0A-9485-38799942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15F-36FB-49D9-923C-02F5A7CD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D2D2-ABAF-496C-91F7-3B103216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8F30-5ECA-4853-A726-8F23C07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72F1-0CEE-450C-BED0-280514A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751B-A9C7-400D-889C-4D98A894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E4E9-F252-42DA-B46D-40B86366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AE4-0685-4BF2-BC79-3FCDECBE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C84-436F-443E-AFBE-8BD8E5CE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9AA-9BC9-4F16-816B-11D0CF1D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E12-CAF3-4164-BC93-081BC9D4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307-7D62-4360-AE26-06A8BB12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F2D-D7F0-41A9-A14D-1695965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375-28B7-4B02-A0C2-7A2CBE80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92E5-F3C1-4F4B-9A1C-2A7EEAB65F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3C27-0467-41C3-B504-23B20DFCCE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s vermes nos anima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76440" y="1828800"/>
            <a:ext cx="59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0:25:38Z</dcterms:created>
  <dc:creator>Microsoft</dc:creator>
  <dc:description/>
  <dc:language>en-US</dc:language>
  <cp:lastModifiedBy>Microsoft</cp:lastModifiedBy>
  <dcterms:modified xsi:type="dcterms:W3CDTF">2008-07-03T11:03:55Z</dcterms:modified>
  <cp:revision>2</cp:revision>
  <dc:subject/>
  <dc:title>Slide 1</dc:title>
</cp:coreProperties>
</file>