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623-08C1-4D6A-B4E1-E8815764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9B1-FB64-4771-B27D-BD56EA7D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0E1-5936-40F1-AED8-FA689587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83D-213A-448D-BD5E-B7743D1A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324C-ABF1-4378-9833-C47A250F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677C-492A-46BB-ACD0-A36851EF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D43C-D14B-45BA-899D-E9227C79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56C8-0B4C-4CAB-A6BF-24CC1F36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5089-09D8-4BF8-BA5F-B5471D1A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5623-4839-4391-8499-6B813EDA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2226-2CAC-4E6E-966D-DD75E4CD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472-1000-4910-A042-3B5FC726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833A-56E3-495A-8F9F-D4A4C49F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61A7-407C-420B-B789-FE146511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088C-69B9-49B5-9788-D7D92A89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DE9E-B06D-46FB-81CD-A614A35B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93D5-C474-4C99-B307-68C99950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B0B-10FF-470D-844A-ECD4416A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A90-D3E9-4943-A1AB-7C23C827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616-E95D-4CA8-9ACE-B90FCB9F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185-8A12-4D27-A15D-2CF734EF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B246-5271-4641-AB11-3E05A321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48E-0802-4184-A73C-542B516A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8DB-9C8D-4D4D-BB88-256B7E5B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9097-3AFD-4625-A0B6-A62F159D3E9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82D0-B2B9-422B-A56B-487F05A619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s vermes nos anima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76440" y="1828800"/>
            <a:ext cx="5914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0:25:38Z</dcterms:created>
  <dc:creator>Microsoft</dc:creator>
  <dc:description/>
  <dc:language>en-US</dc:language>
  <cp:lastModifiedBy>Microsoft</cp:lastModifiedBy>
  <dcterms:modified xsi:type="dcterms:W3CDTF">2008-07-03T11:03:55Z</dcterms:modified>
  <cp:revision>2</cp:revision>
  <dc:subject/>
  <dc:title>Slide 1</dc:title>
</cp:coreProperties>
</file>