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E46-B7CC-421E-A152-A9714812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CAB-6B5F-4C45-85C7-9C0F132B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910-FCBA-46D3-91A2-5F9EDAA0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2B6-07CB-48D1-B457-079A4DC4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2775-5A02-4857-95F1-D724C114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4859-F0B8-4445-A912-D635B105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F28F4-1C27-481D-ABD5-A621EC33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61D7-B6F9-4AD2-A5B5-0FF41722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E3D4-8090-4D7D-AB70-287061C8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35F8-EEDC-47F4-8C1E-E1CE7881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95F4-8391-4F94-9912-BC293E59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448-A065-4FB6-8BF7-2C72E96F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0779-75C2-4C9D-98DB-5EE0BFF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69DD-4618-4149-A9F8-D631DCAB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3282-020C-467E-8817-34B52644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F49F-7526-4E28-B320-00CDB7C6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3CDA-B8CA-442F-9D94-F725C972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513-EA10-4DF1-B62D-54801621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1B9-D29F-404D-82F5-EFC5F425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467-F253-4CA6-A48B-8A94B53F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7E9-809F-40F6-983A-2BCE4144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1B7-77A2-4CB6-B0FF-775BE2C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8E6-3B13-4185-BF81-09965701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A85-826A-46F1-8A89-A1FE7D72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14AD-7D17-459C-AA75-100334522F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974B-3C11-404B-82F4-F4BF7E6016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s vermes nos anima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76440" y="1828800"/>
            <a:ext cx="59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0:25:38Z</dcterms:created>
  <dc:creator>Microsoft</dc:creator>
  <dc:description/>
  <dc:language>en-US</dc:language>
  <cp:lastModifiedBy>Microsoft</cp:lastModifiedBy>
  <dcterms:modified xsi:type="dcterms:W3CDTF">2008-07-03T11:03:55Z</dcterms:modified>
  <cp:revision>2</cp:revision>
  <dc:subject/>
  <dc:title>Slide 1</dc:title>
</cp:coreProperties>
</file>